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96B-EAC6-403A-BD8B-6696D7FF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52E-97F0-433F-ABBE-C913CA82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BD772-CCA0-459A-8AD1-EE49E8DC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857BD-AAF3-4FAA-9DFA-3C644E18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A78B4-5DB3-4BCA-8BCC-94C463C2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6EC60-FA26-4515-85B9-E81BFC6C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CC7F2-319E-46B8-A040-620ED13E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0992C-3B73-4432-8680-583F6070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57FF1-1555-4C57-B046-B1E0FDFF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AF6DD-CD6C-4911-968D-2BC4FE48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C928E-D2A7-4897-907C-5B15A154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B3B5D-61FA-4B36-8C34-65563242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631-E1EC-461D-9515-4FC12C5D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16835-DBE8-42FB-B278-83E9B8BB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0BC40-5199-40A0-A0DE-2C5FA8E8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29563-9A7C-47A6-BA5B-F07584FD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79F17-B9CD-4A16-B120-CFFD2334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1A994-CFE6-4DB1-94D8-5707E4CE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CFB67-453A-4D70-862B-81F361AB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EF2A6-279F-4A1C-9221-13669550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D5CB3-F664-4240-8314-5AE41ADF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61229-C7A6-4581-BE99-B76E16EE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E9484-10D6-45BE-9354-D79DF0E5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8D9-FD69-49B1-A487-D58CF707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F15AC-EDC1-4148-92FA-15828508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15A6E-35E1-4E1C-A38D-1AF53EE7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62565-835A-488B-8079-6A7B5324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9D9F8-D19D-4055-9F28-F9552C26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89EE8-540A-4D81-91AB-801FF2A7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B73E6-5C40-4BD3-A034-7A9DDF1D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0CADD-A1C2-43D0-9274-82839D21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5F6AC-C856-46C0-BAEA-E2FD5E34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E5F83-7A1C-439C-BAE9-145E7CAE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A1377-D089-4D2A-9000-E969CE79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FAC2-B4DE-491D-8AF9-DB5A13A6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2C5B4-6AFB-446E-9246-937CAC65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F9201-C835-4A9D-A53C-7F25D5DF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6D817-275D-47F8-9D38-C4625021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B450E-6451-41AD-B3C1-15C9566E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E1238-5493-4E4D-AB88-CA0C4617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95D83-2AFA-4AEA-BBEF-AD73F865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D11DB-4BC8-4DE4-A0EE-BEBB3889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FB795-6B7B-476D-9AFE-2514CF4A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1801D-D235-454D-B724-0B19F0C4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91393-C432-4A61-98B5-FE8F4AE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7AB5-BFDF-4908-B0E9-B8E46CF4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DB2A9-4428-4359-91B0-357988E4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DF0BD-4D4A-4B94-BCCB-08657437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62544-AF26-468E-9DF1-EA3D8E74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4AAF9-AC63-4158-9B5C-36E2014E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8B3A5-42B2-447B-A3CB-5C9567C6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659B7-2CEA-452C-ACC0-1D6AE646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8FEE8-C108-4E2D-9AB2-B3A10E29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8B3AC-62DE-4AEA-9350-E3834FA5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7BC05-2FE4-482F-857A-74A0604E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47E03-F9DE-4C5C-AA74-6855F4A3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BA7E-6BB4-420C-B6BE-FCF0C3C6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6922C-5E74-4069-8A68-27BC7DA7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42F23-5DD0-4D72-B908-C8EABFB7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DB985-F712-442B-BB38-58C4CD31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2681F-E44D-4EA3-8B8F-683A6A12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82757-1917-4A4F-8117-66154055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FEBFA-BCEC-4399-9DCA-A9EF908E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476AC-C2C8-4B2D-B727-E5A9872E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FD386-AD9F-4668-9F1A-9460F362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7B4D7-B32C-4E9D-A3B8-11C78A33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16C9E-3C48-472C-AA2B-E90D856C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CF08-DBA1-4FDE-861B-153A21F4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A0F8F-F239-4F50-9DA5-68E9C879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BB265-C5D9-45CC-819F-D84EAADA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BE4C35-6A22-4D5F-BF49-541EDC54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55045-D2AD-4441-8A2D-A4B4EB78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49CC7-61DD-42BB-B353-1455369E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E4810-D67C-4618-A07D-E5CB673F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C1D44-7213-43B5-8C5C-AE21E1A7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4655D-DAD5-49E9-8168-F9EF3D4C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C41D1-FEE8-4380-925E-A3B958C1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B0FDB7-F0A9-49CC-900E-13B00939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31BB-622C-4942-9F40-FE5A708E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94289F-1D95-4563-9CD9-12D8C439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DB7FC-19A8-4D3E-BD05-B5F2EF66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ED123-C772-45ED-A12A-D015BF4A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B3604C-1782-463A-9F43-D14BF902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7DE21-4A36-48B9-8F06-47A9B03A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EFA16D-E03C-46AA-B019-EF4CCD4A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4AE552-94F5-4099-B548-3F84D119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48DBEB-A287-49F4-94F8-D3F987A2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8E8498-625A-4A89-A3D7-918AA6E6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F8EE9-0E0D-4F03-9471-4AA97F7C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000A-1E03-4D52-8E71-CA9B9667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663AD-870B-4AD3-9521-14F77405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6050D-EA3D-4EED-907D-9D2B040A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411DC-2836-4722-AC82-68FAA84F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3A9166-7B7D-4665-A5A2-48F467B7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A1449B-3681-4620-9C6C-8526E270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36659-7C31-4D10-8BC0-B04EDF57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14A98-C2DB-4C5C-95EF-732776D5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A3A4EB-B805-42C2-AF6C-78BAB577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BC1413-C63F-41D7-953C-198ADB3D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649B6-D925-49DE-9692-05545469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4E9D-8797-4BA7-A09E-132B79AC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97E266-49CB-4A37-80A5-880C32D3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015DBD-FFD9-4DA9-A359-F20BD9B5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CF5A2B-C26E-454C-B22F-2A98CCC8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0143E9-E96A-4A94-B27B-75B790FA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85B6BD-8EE0-4981-A546-F932D3C9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6B76C-A361-4A48-B916-9B3410E3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70141E-9438-4092-8E1B-02A41909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FCA745-3D1A-4271-A5D6-AC652CBE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D5B7D3-260A-49AD-974A-42BDBBD3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AA34C4-359E-4166-848C-C821C4CE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D13-B5E4-4BD8-BBCC-793DE0EF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B361-6AD2-455F-99B6-ACC2026C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B4822F-68A0-4D13-B70D-C06F44B2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D2EAC-09EF-4287-B05C-AC386805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1489E7-5C9C-441D-AC41-7FCD285E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85C3C-B237-4042-8971-7AFD5152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321FE6-A067-49BA-9EDC-B6811CD5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FFD32B-B515-4354-A34A-64761505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9F9CAE-84A4-4072-8278-89DF122B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DF1331-63D2-46D0-B87A-4F128C1F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AB2A2-1F22-4148-AE5D-599BB54F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BB313-6743-45A3-A7C0-D88EA9EA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F844-398F-43EB-A0AF-412DC939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DAFA5-69B3-4D37-8DA7-00AD74C0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FFFB55-B25F-4DBB-9FD9-F387EAB7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3613E0-D235-4981-9A41-F87863B8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C0F43D-89F7-4669-9151-A4BFC3C2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554F0A-3523-4885-8B24-9412D561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E4BEF0-BCD1-41B5-BF45-221D7445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FB198F-6D06-45E1-9FC9-E1A4DF56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BCE87E-45BD-4E97-A96F-FC75E007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CDE78A-5730-4026-8557-C6CEA0DE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8C2213-E5BB-426C-B15D-7BA6373F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DF9A-A542-41E6-97A6-91C829F4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6964C6-B749-4ABA-8811-78A1E42B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CD14EF-C470-4BC1-A5F9-9E30FC8F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D76409-51DC-43AE-A672-3D8C3388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7D5739-EADE-4062-B401-24AA0814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C34118-CFCB-4993-AFDB-E42D2E98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53115E-087B-4547-9E14-85F9AC62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6766A8-262A-4A29-A604-72759E70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725E15-0330-4286-906F-E91CC6A6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9E1034-E722-4014-9B12-863F5C0A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F5FF48-9379-4951-85C3-FC644DA4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A877-0DDF-45AF-B46C-33B2D61C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9E57B5-AE12-4323-9D70-F4F96636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3064C-7204-4384-84D3-2606607B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EA1F50-06DB-411D-8D2E-27EEC558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D52FA5-BC73-43D0-B11C-CE78B47D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718F4A-DD0E-4418-B3D8-1181C93A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41BABA-E98B-47FD-8F1A-3890F499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38293B-4CAB-441D-B3B7-8E2C3C30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9C9E90-EED0-4227-92A6-327F5714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F8244F-5C20-48E4-AB74-E4C724D4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24F39D-0637-4D5E-A881-522D1E23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E503-475E-4EC9-837D-76E69ADF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6B8828-C68C-4715-B0C9-F0486DD4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363EBC-7E35-4818-B467-51289A69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F5B35E-3E17-4FE7-BEAA-63DA64C7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DDEB11-C1B7-4819-85D9-945C81AF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6A5FA2-6613-44F2-8E66-5E7E90DE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8BB9C0-8CCA-4C31-A722-3C622D7A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D310C8-4DB8-4F80-98A3-A467E8E8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2A9D57-323E-49A6-9574-9217E199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D8EFDE-6C75-4CB5-AEF0-4005F769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0FAB61-9C96-4119-BE6B-49D89D0E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91EEDB-6202-4C16-8528-49C06506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6E20DE-6A6F-409E-85E3-178268D0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C87C17-6934-441F-9576-797DF7CD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73E-8530-4C66-8A60-4D53AD03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EBE6D-6479-4777-BD81-A1F310DD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D3E3-67D1-4718-B45C-E65FD208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C29C4-BC58-4314-84E7-902354C0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703-9184-483A-A420-52AC96EA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0878-457B-4C4F-8525-FE1735BF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5E74-5262-4229-B867-924625AC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F5321-010E-4DC5-B4EE-D02E3F9F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ABF89-8DC2-425E-BA63-70AB590B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1A45C-6C0D-4BC8-A5CD-86946F2F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31321-8916-4094-9F35-FE498019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F5D5E-BC53-4BFB-A8DF-1369E10F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B28BA-FB96-4347-A402-921CF3EC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11D64-A733-4AFC-9655-1B4F6591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B2AB5-4075-4143-B665-5D567CD1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923-A042-4CAF-9CF5-C7ED6201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3AE11-F4EE-42BE-B800-9227E2A8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B9669-9A71-4753-AF16-1087BAD2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7B495-7D69-4F6F-AA97-95AE8717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B1FA9-DC00-4DD0-9DA6-A147EBB7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E8DFC-D26E-4B84-AB84-B31E56F2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B3084-C08E-4010-B471-0458875E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0D9F3-BAED-4848-991D-9311C58D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515F8-D425-44B4-BAAA-C02ED99B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D9B20-D173-4253-B6E0-E8E7CF98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6C6B5-B66E-4489-8943-7CAF394E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B66-E227-43D5-BD5D-5DE4D457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5641F-3C9F-4EDC-B89A-BF83B3FC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95413-D9BF-41B0-886F-1DF4866C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22B9-C269-4D43-ADEB-F6755FBB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21A57-3B15-4338-BFED-F83BB3FD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3B284-8D5A-4525-9E6E-14324F08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F5CA6-F9E0-4E56-A291-96E21A9F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FD3CB-C692-483F-9743-5900E42A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EFCB0-6618-4E2D-A186-5EA144D7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DD215-3291-49B8-8F06-2B21900E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ECA07-9D7C-4E56-85A0-36CFC0D5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376-7C85-469A-8FC4-AA28AD4C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762E3-3DBC-4093-B1D4-0B35AE64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37379-5234-4CF5-9576-92D8AFA0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9669E-D4A2-44BA-B1BB-467EB2FB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64CC9-49B6-4BA4-81CA-08D8F0E7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AAB41-C4BD-4A91-8769-15D9BE52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A4112-DD48-41A0-BEC7-D6175A29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2FAB9-81FB-42B3-8D41-E2AE248F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1048E-57CD-49FC-8643-5A98AF96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C6559-DE9C-4184-B085-FB57B76A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C56B5-7670-43D7-95A4-F18C3441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E7F-6F8C-451E-A851-87222A40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48EB8-7EDD-4B8B-B11D-40AD2B8A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2065B-F6EA-464A-B512-A4DFDBEA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503AB-0C9A-41FD-B6B5-E00EE68C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79928-B93B-4426-95F1-52688AAF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95AAC-C338-463E-B8E3-73821CFC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B3A1D-92B2-4B40-888D-AB52998C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0333D-B40D-400A-B673-FEC73CD0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B1309-EDB0-4A4A-A60E-9AC054BF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969A8-E85E-4FE8-8904-C816F0F7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183E9-20E7-4647-A889-A12D91F4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225-8B3A-467D-9C89-9F300E5E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E6B06-4EA9-482B-9883-F2999354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C2CE0-A80D-40C9-A774-8626A6B1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C940E-D630-4A28-96C1-707973E3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042D2-EB58-439D-A893-C2068152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76235-B1B5-43B4-8C5C-97277D92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8A0FF-2A36-4A05-953E-4A2ADFF3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C47D3-155D-49E5-A224-62B3CCB7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044B9-FD86-4D12-8FEB-A1472B70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5B8C8-47A2-4E54-9FE5-313EC551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AC41B-AC31-41D3-8EBA-E55EB8CE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891A-C934-4B44-A585-996EC34129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7A85-E812-410D-A18A-68E857779D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872B-AD97-4258-B7F2-DF99483B20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C865-83CB-48E6-AAEF-7ECD8D525E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425B-B492-45F9-8E02-41CA81B878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B769-8F1C-42C6-85A4-6182D31CE5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FD82-4134-42ED-8557-B871EF62F8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7924-9F74-4DFC-9E2C-0E5D3187D3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CCE6-6773-424E-AB94-E61DBB9D4F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907D-2E3F-41CE-A92C-A500EA42FD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5CC8-A021-4D13-B93A-0922A46AD1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7728-CF89-41E2-B351-74C6999E13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3A27-A65D-4780-953B-4E3B675E07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FBEC-8850-4B41-9639-48BF252868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DD4F-81E1-44E7-882E-DEE069A615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889B-BAB6-4AFD-B6EC-817627F26D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2466-4042-4B20-997F-1E5D333E0E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16EE-3586-4FAE-94B0-D794F2BB79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C287-28BD-446E-9AAC-FB17529160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4BC4-012B-422C-AB58-540AB26FD7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6CAF-4110-49D0-A8D3-70AAC1E386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24E1-15F1-404A-9A66-3A6049C2D7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BC8B-3937-4FC2-BDC3-DE3DBC1821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8BD6-A299-491A-8097-36D5E58ADF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FC54-A42B-4979-A9EC-C318CD80B9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F161-C3AD-465D-B067-6B628313EB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46DC-CD61-4D50-AC26-26E999324A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7F0D-A2CC-4DB2-A8CB-F0C5EC74EB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9814-E141-4C52-8316-5455F72133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3C05-60B6-49C1-8FD0-72F161477E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759A-16FD-4F75-BFDA-59A9FD6F85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6154-467D-48F5-97D2-EF76EA6502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D7EE-6F16-4BA7-A87F-4F5BCE47B5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8509-D9AD-4783-B9DE-0789207C35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9D79-778E-4654-9497-1AE8169103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C12F-82A7-4C94-B6A8-5291F87404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3BD0-A3B3-457E-B006-EB71128292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0F47-39C5-4AB9-B807-D894BEF829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C5C6-11CB-4480-96FA-0B5A8BB303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2719440" y="1978200"/>
            <a:ext cx="3705120" cy="101916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1285920" y="3341520"/>
            <a:ext cx="65721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3313" descr=""/>
          <p:cNvPicPr/>
          <p:nvPr/>
        </p:nvPicPr>
        <p:blipFill>
          <a:blip r:embed="rId1"/>
          <a:stretch/>
        </p:blipFill>
        <p:spPr>
          <a:xfrm>
            <a:off x="1490760" y="1576440"/>
            <a:ext cx="6162480" cy="3705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2700360" y="31543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6659640" y="39337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3348000" y="47037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图片 14337" descr=""/>
          <p:cNvPicPr/>
          <p:nvPr/>
        </p:nvPicPr>
        <p:blipFill>
          <a:blip r:embed="rId1"/>
          <a:stretch/>
        </p:blipFill>
        <p:spPr>
          <a:xfrm>
            <a:off x="114480" y="1538280"/>
            <a:ext cx="8915400" cy="37814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1332000" y="3251160"/>
            <a:ext cx="576108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1258920" y="4749840"/>
            <a:ext cx="5761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图片 15361" descr=""/>
          <p:cNvPicPr/>
          <p:nvPr/>
        </p:nvPicPr>
        <p:blipFill>
          <a:blip r:embed="rId1"/>
          <a:stretch/>
        </p:blipFill>
        <p:spPr>
          <a:xfrm>
            <a:off x="414360" y="826920"/>
            <a:ext cx="8315280" cy="59151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1116000" y="2354400"/>
            <a:ext cx="698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468360" y="4619520"/>
            <a:ext cx="698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4"/>
          <a:stretch/>
        </p:blipFill>
        <p:spPr>
          <a:xfrm>
            <a:off x="539640" y="6143760"/>
            <a:ext cx="698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5" name="图片 22529" descr=""/>
          <p:cNvPicPr/>
          <p:nvPr/>
        </p:nvPicPr>
        <p:blipFill>
          <a:blip r:embed="rId1"/>
          <a:stretch/>
        </p:blipFill>
        <p:spPr>
          <a:xfrm>
            <a:off x="457200" y="1109520"/>
            <a:ext cx="8229600" cy="46389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529080" cy="449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5076720" y="2844720"/>
            <a:ext cx="352908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3780000" y="3598920"/>
            <a:ext cx="352872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2843280" y="4365720"/>
            <a:ext cx="352908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3492360" y="5160960"/>
            <a:ext cx="3529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21505" descr=""/>
          <p:cNvPicPr/>
          <p:nvPr/>
        </p:nvPicPr>
        <p:blipFill>
          <a:blip r:embed="rId1"/>
          <a:stretch/>
        </p:blipFill>
        <p:spPr>
          <a:xfrm>
            <a:off x="166680" y="866880"/>
            <a:ext cx="8810640" cy="5514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284120" y="43052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20481" descr=""/>
          <p:cNvPicPr/>
          <p:nvPr/>
        </p:nvPicPr>
        <p:blipFill>
          <a:blip r:embed="rId1"/>
          <a:stretch/>
        </p:blipFill>
        <p:spPr>
          <a:xfrm>
            <a:off x="357120" y="942840"/>
            <a:ext cx="8429760" cy="54388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8193" descr=""/>
          <p:cNvPicPr/>
          <p:nvPr/>
        </p:nvPicPr>
        <p:blipFill>
          <a:blip r:embed="rId1"/>
          <a:stretch/>
        </p:blipFill>
        <p:spPr>
          <a:xfrm>
            <a:off x="590400" y="2343240"/>
            <a:ext cx="7963200" cy="21715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9218" descr=""/>
          <p:cNvPicPr/>
          <p:nvPr/>
        </p:nvPicPr>
        <p:blipFill>
          <a:blip r:embed="rId1"/>
          <a:stretch/>
        </p:blipFill>
        <p:spPr>
          <a:xfrm>
            <a:off x="85680" y="1866960"/>
            <a:ext cx="8972640" cy="31240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246320" y="28065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0241" descr=""/>
          <p:cNvPicPr/>
          <p:nvPr/>
        </p:nvPicPr>
        <p:blipFill>
          <a:blip r:embed="rId1"/>
          <a:stretch/>
        </p:blipFill>
        <p:spPr>
          <a:xfrm>
            <a:off x="442800" y="1509840"/>
            <a:ext cx="8258400" cy="38383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826920" y="4221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2289" descr=""/>
          <p:cNvPicPr/>
          <p:nvPr/>
        </p:nvPicPr>
        <p:blipFill>
          <a:blip r:embed="rId1"/>
          <a:stretch/>
        </p:blipFill>
        <p:spPr>
          <a:xfrm>
            <a:off x="480960" y="860400"/>
            <a:ext cx="8182080" cy="53053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826920" y="10778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768240" y="28782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1265" descr=""/>
          <p:cNvPicPr/>
          <p:nvPr/>
        </p:nvPicPr>
        <p:blipFill>
          <a:blip r:embed="rId1"/>
          <a:stretch/>
        </p:blipFill>
        <p:spPr>
          <a:xfrm>
            <a:off x="914400" y="1190520"/>
            <a:ext cx="73152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7:17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